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358-F77F-48D5-8998-B0BAB868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DCF-1852-4923-B6DF-9A03FA89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54D-877F-4342-A4A2-401DA066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4E6-EF1F-4D6B-97E6-EB7CA30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C455-7BE0-4008-9A49-5B580CC5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CC5-8DFE-4F8E-B8F4-3E64144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80EB-89CF-4EC5-B4BF-5231874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675-D029-49FF-99F1-2604E0E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4552-2612-4685-8587-1B398DA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693-2AD9-4020-8D64-CE045F65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8DAB-79EB-4FC2-9B0A-0F4C5A3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BF3-210F-42F1-AD12-433AA24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C74-C306-4E88-B09F-BF61FB6C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5FA6-45FB-482B-B986-B45355D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E296-296E-4AFE-B1DD-C7B29916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C22C-6E5F-4971-9464-700979B7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036-8BD1-43D1-965F-6F561AD9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093C-C4F0-436E-835C-D8C9E288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A0FA-E177-4F76-A7DE-D4EED34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DE42-F522-4B36-A9DC-C6092FA2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FE53-63BA-4CF8-851B-02CC626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842E-7C64-406C-A573-C6CA0B0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7EF-DECE-422B-99D4-D4F71EF3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3119-696E-4237-91A7-7470646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54CE-93F5-422B-8DBE-63E5C55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907B-292E-4463-BD2C-E617DAE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35CF-826F-44F4-8DC5-3D3EC42B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FF97-841C-41F7-9584-B26C925C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D3F1-0EA5-4BD8-A714-0EFA520B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1218-6096-4FB3-BE4E-44E6BA8F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7DAE-1969-48C1-A019-F1693BAE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2906-2454-4E74-89D4-9B51754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38CA-ADD5-43D9-93F2-1135C2F0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326-0BEE-4B49-91F8-A8350273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C063-6BA2-442A-AA2D-E77F6B11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7372-5FA3-437E-AF1C-20090A8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1C47-AE08-4F04-B4F5-E2AE8C3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88B6-255B-4498-8E5B-9A4A4423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2F6C-3896-4E9E-A6E4-99FCB2F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0D6A-D5CA-4002-BED1-2F19C17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5CC4-E477-4222-A3F6-705A900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1E67-63CC-4B0A-B53B-305EF1A9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2511-1902-4CE9-915C-2CF62C5C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3258-8FF3-4B75-8719-337B0F8D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157-7D30-4504-A5B8-EADE227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5ED5-835D-4914-8379-4D78066F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2598-7A59-44FE-A063-E97EA3C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4365-FE7B-47BF-83D5-817AFBC1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B4B0-EBAE-4E9D-B43D-BF11824A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E56A-E314-4024-A89B-254AFE8B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DDF6-03E8-4790-A6FA-E2985D1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998A-37DB-493A-805D-8C809AA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1C04-F177-4B9B-AB85-2E4A396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1A796-B48B-42E8-9670-2488E31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5B7F-3981-41E4-AF37-601B51D7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A35-C0C2-4E84-90BB-FEF8F15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1CD7-C3BE-45D3-B474-D26240A8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F1E8-3069-4374-8AC3-F4B4DA2E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CE33-51DD-49E7-9D19-BFFBD4B1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EE53-9B2B-4756-A2DD-FF11C16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9EDF-B46A-41C1-B734-DC6769D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84D4-1BB5-4CFE-9493-0B58E8D5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EF31-36E1-4059-928A-721BCB8D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4686F-5341-47F6-85AC-AFAD54F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83351-A875-4318-8308-67A2ABB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FA83-AB56-418B-80F5-53029E1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0DA-EEB7-41B2-9894-C4F89D5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7F6F-E940-4E07-9FFA-94383F0F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DBA6-6923-490C-A6C0-F70E4A7B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7B5B-5228-4FEC-9AE8-F26A148F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5449-A8ED-486B-AA66-1CBFA9D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3280-0FB3-495F-A8B5-7975F1C0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63E64-3E71-45FC-BABA-51B88DBF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0C36-B277-4235-9F0A-DA36E989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3789E-9C6E-4929-9E5C-3B190BC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3927-66A7-47AC-B773-9AABB21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C998-DD0F-4D00-B1A1-227502F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952-7DA2-4F47-AC65-5CD1592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6D13-F277-4D9D-85EF-8C1640B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562A-7D5D-4A15-A1C0-B2684B1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099C-E81A-4186-B8AC-56A1F80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E2AE-A716-4F11-862B-342F74C1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3A5A-A1EF-4A97-8EB4-B4FE8AE2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FE9-2AAA-4155-816D-BCACBA7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ADF-EA34-481A-8474-287B1AA233A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5989-43EF-4F2E-964B-9052CB044F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C2AE-4747-4E9D-A2D1-873C429ACA4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626-C21B-4666-AF86-2C393224B04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F90-40A8-4278-8F09-AD8AA3DED64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76C-6323-4AB6-B5B6-F625CC3391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28F-87DB-47E6-B420-20BD207F2FC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5DF-7C23-47E6-A83D-26ACC98953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E6BF-E343-454D-BCFA-18DD73CB2B3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B88-1BE2-4630-A0E4-E7A7826BEC3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CFC-9198-4777-AD86-FD5CD339A95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BB3-8F81-4834-8310-87258E306B6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F5A6-6EF6-4899-BE97-E66583C587B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A5B-8B84-469A-B609-52DF377233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8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01E8-07CF-4C53-9117-512F92006ED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F7D-1032-4FE6-936C-CBB9C207A8B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Rectangle 6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проф др Светлана милетић Дракул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F59-79CD-4C7A-947A-EE30377EE7D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CA7-0B12-4094-BB4D-18C9C5230CB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1eeff"/>
                </a:solidFill>
                <a:latin typeface="Consolas"/>
              </a:rPr>
              <a:t>Синдроми оштећења кичмене мождине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rbel"/>
              </a:rPr>
              <a:t>Нагло настао пресек кичмене мождине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1.  фаза  спиналног шока, око 3-4 седмице), угашене функције кичмене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Corbel"/>
              </a:rPr>
              <a:t>Угашен сензибилитет за све квалитете</a:t>
            </a: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 од повређеног сегмента наниж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литава одузетост испод лезије ,атонија, угашени рефлекс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тенција мокраће, бешика проширена, атонична, паралитички илеус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2. друга фаза, успостављају се функције к.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Појачани мишићни рефлекси, повишен тонус, одузетих екстремитет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флексна неурогена бешика-аутоматско пражњењ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асивни рефлексни одговор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BB52-27A2-4F39-BDD5-4C54C78D47D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EFD-0480-4FE2-BB68-5BCF0038EAB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300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Brown-Sequardov sindrom</a:t>
            </a:r>
            <a:br>
              <a:rPr sz="2800"/>
            </a:b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(хемисекција-пресек половин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На страни лез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1. Слабост 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2. О</a:t>
            </a:r>
            <a:r>
              <a:rPr b="1" lang="sr-CS" sz="2400" spc="-1" strike="noStrike">
                <a:solidFill>
                  <a:srgbClr val="ffffff"/>
                </a:solidFill>
                <a:latin typeface="Corbel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дубоког сензибил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404-A874-4A8D-AB49-21568CEA003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D76-FE88-4094-8FC0-9A1566F47E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410080" y="160020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тра ст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О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спино-таламицки п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не ос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 бол, топло, хладн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E89-9303-4432-BC58-FA11D13D46B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3A27-5F9F-49E2-AAE6-291BFB3A74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2" descr="spinalcord23"/>
          <p:cNvPicPr/>
          <p:nvPr/>
        </p:nvPicPr>
        <p:blipFill>
          <a:blip r:embed="rId1"/>
          <a:stretch/>
        </p:blipFill>
        <p:spPr>
          <a:xfrm>
            <a:off x="2104920" y="100080"/>
            <a:ext cx="4934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редњи синдром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040" y="1784520"/>
            <a:ext cx="603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-синдром а спиналис ан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одузетост (обострани пирамидни пу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исини испод лезије постоји дисоцијација сензибилитета (губитак за бол, т 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сфинктера и импотенцијом (обострана вазомоторна парализа испод места оштећ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9036-CFF4-47AA-AC3D-4BAAB4DCCCD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03CA-53AC-42EB-BA73-9911D50594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6748560" y="9698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25" name="Arrow: Right 6"/>
          <p:cNvSpPr/>
          <p:nvPr/>
        </p:nvSpPr>
        <p:spPr>
          <a:xfrm>
            <a:off x="6084720" y="3284640"/>
            <a:ext cx="574920" cy="14436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оштећење средњих делова</a:t>
            </a:r>
            <a:br>
              <a:rPr sz="4000"/>
            </a:b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рингомијелиј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оштећење спиноталамичког(боли т) у одговарајућим дерматомо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EB2F-37E5-4F0F-843C-CB63A08ACBE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D1A3-FBB3-4025-B127-7A99D4C2B3F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6105600" y="28526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31" name="Arrow: Right 6"/>
          <p:cNvSpPr/>
          <p:nvPr/>
        </p:nvSpPr>
        <p:spPr>
          <a:xfrm flipV="1">
            <a:off x="5011560" y="3677400"/>
            <a:ext cx="719280" cy="3574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централна </a:t>
            </a: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ш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упљина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040" y="1784520"/>
            <a:ext cx="502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Ц6-8, Тх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: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јена, интрамедуларних тумо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цује спино-талам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 који се укр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 ос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у бол, тепературу на рукам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ИРИНГОМИЈЕЛИТИ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 ДИСОЦИЈАЦИЈА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сензибилите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E3B5-ACCA-4770-81D1-4AF4D113FB0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6F6-C586-4144-BF1C-AFF86E576FD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6300720" y="1784520"/>
            <a:ext cx="28432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упљина вр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и притисак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редње рогове-ПМН-у миотомима на Г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ирамидни пут на нога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сензитивне путев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ирингобулбиа (о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тећује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нзитивна једра  н. тригеминуса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сирогомијел. дисоцијације с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зибилитета на лицу-Зелдерови прстенови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A26A-7C1F-428E-8D42-0BF6A0010E3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53D-527A-4298-8891-3169B337310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мптоми оштећења задњих фуникула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задњих фуникула(табес дорсалис, фуникуларна мијелоза, мултипла склероза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дубоког сензибилитета(лак додир, тактилну дискриминацију, добоки положајни,  вибрациони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лавабоа, прсти који свирају клавир, Ромберг са затвореним очим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60A3-608C-48E6-AC7A-2CC0A8DEF21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9A7-433C-4740-87CF-9FEFDA94F1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узроци оштећења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исхемички инфаркти, крварењ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запаљенске лезије(мијелитис, епидурални апцес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тумори кичмене мождин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ултипла склероза, васкулит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отрузија диску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спондилоз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EF8-5AA9-462C-8393-83E3A5018A9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37D-F8EC-4B86-B507-CD5A8CE46A3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CB5-0EF5-4090-8BEB-1BDA12633A1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262-4084-4043-A138-5F4B664C812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4" descr="N9_15S"/>
          <p:cNvPicPr/>
          <p:nvPr/>
        </p:nvPicPr>
        <p:blipFill>
          <a:blip r:embed="rId1"/>
          <a:stretch/>
        </p:blipFill>
        <p:spPr>
          <a:xfrm>
            <a:off x="1547640" y="907920"/>
            <a:ext cx="64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дијагно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нуклеарна магнетна резонанца НМ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еглед ликво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СЦ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ЕМНГ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Биопс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1706-D367-4023-823C-FE310F20485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4D7-58B4-4D70-9AA1-D2521801E45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3" descr="spinalcord36"/>
          <p:cNvPicPr/>
          <p:nvPr/>
        </p:nvPicPr>
        <p:blipFill>
          <a:blip r:embed="rId1"/>
          <a:stretch/>
        </p:blipFill>
        <p:spPr>
          <a:xfrm>
            <a:off x="6588000" y="2349360"/>
            <a:ext cx="18590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37C2-28A8-4610-A8E9-485D489DD3D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5EB-04CF-468F-9C05-D90E8ADE56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Object 2"/>
          <p:cNvGraphicFramePr/>
          <p:nvPr/>
        </p:nvGraphicFramePr>
        <p:xfrm>
          <a:off x="1143000" y="533520"/>
          <a:ext cx="7238880" cy="556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72388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21A-DEB5-4408-A658-2062E6694A6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49A-6A20-4AD2-88B7-DF7C89714C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400680" y="549360"/>
            <a:ext cx="352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површинс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, температ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ксуалне сензациј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0DD0-8D98-4C90-989B-26D825CA9D0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C980-5B4F-4134-B117-96BAC6A0DA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2" descr="Untitled-12"/>
          <p:cNvPicPr/>
          <p:nvPr/>
        </p:nvPicPr>
        <p:blipFill>
          <a:blip r:embed="rId1"/>
          <a:stretch/>
        </p:blipFill>
        <p:spPr>
          <a:xfrm>
            <a:off x="3851280" y="0"/>
            <a:ext cx="3978360" cy="69087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393840" y="47628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дубо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вибрација, пасивни покре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глобна и дискриминација две тачк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1B33-3061-4D45-9968-1389B146E64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75F-61C8-4009-9F79-FB63A3956A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spinalcord12"/>
          <p:cNvPicPr/>
          <p:nvPr/>
        </p:nvPicPr>
        <p:blipFill>
          <a:blip r:embed="rId1"/>
          <a:srcRect l="0" t="22146" r="0" b="0"/>
          <a:stretch/>
        </p:blipFill>
        <p:spPr>
          <a:xfrm>
            <a:off x="0" y="152280"/>
            <a:ext cx="5105520" cy="642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spinalcord13"/>
          <p:cNvPicPr/>
          <p:nvPr/>
        </p:nvPicPr>
        <p:blipFill>
          <a:blip r:embed="rId2"/>
          <a:stretch/>
        </p:blipFill>
        <p:spPr>
          <a:xfrm>
            <a:off x="4714920" y="380880"/>
            <a:ext cx="442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висинска локализација лезиј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астична квадриплегиј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во сензибилитета Ц1-Ц4-лезија изнад вратне интумесцен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миотрофични синдром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итава одузетост руку, спастична одузетост ногу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параплегиј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зија торакалне кичме између интумесценц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литава параплегија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 лумбалне интумесценц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298C-66D2-4C69-AF6E-CA4396EC063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A9C-3C94-439A-9497-39555709C9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8803"/>
                </a:solidFill>
                <a:latin typeface="YUDutchR"/>
              </a:rPr>
              <a:t>Sindrom conus medularis-a i caudae equinae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440" y="7617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ндром конуса почиње нагло са билатералном презентациј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понтани бол редак и благ у перинеуму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мишићне слабости 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одсутне или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незна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тне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, симетричне, ретке фасцикулациј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метрична дисоцијација сензибилитета, губитак  за бол и температурне дражи а очуван за додир у перианогениталној, седластој дистрибуциј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пателарни и ахилови рефлекси очуван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инцонтинентио уринае ет алви од самог почетк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оштећена мушка сексуална функциј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6854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индром кауде еквине почиње постепено и једнострано, а затим асиметрично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понтани бол је јак, радикуларни и асиметрича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мишићне парализе су тешке, асиметричне, фасцикулације уочљив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асиметричан испад површног сензибилитета седласте дистрибуције, без дисоцијациј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ателарни и ахилови рефлекси могу бити угашен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функције сфинктера се јавља касније и у блажој мер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мушке сексуалне функције блаже израже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1565-06AC-4F99-9E39-CB42340E13A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2801-BC29-4308-966B-08C7C68EBF0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593-8E7C-4AA3-B149-EF235C95344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904-C506-498D-8C7B-A77F16ED62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13:20Z</dcterms:modified>
  <cp:revision>94</cp:revision>
  <dc:subject/>
  <dc:title>PowerPoint Presentation</dc:title>
</cp:coreProperties>
</file>